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A64-7216-4C55-BFC1-95E7FC731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6107-B11A-4CD3-A571-F95D1BCC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E26-DBD9-4CEC-BB45-EC7C0C64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DFE1-0E6F-4181-AC03-BA868E9F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BE00-B419-4994-A7CE-724B51F3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F5D7D-6371-4B6B-B344-74E391E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D3096-9E8C-48D1-9B00-95F81D1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2CECA-CAEB-481E-851D-0B017887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05F98-43E0-47F1-9DA4-E975C1E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ADF58-F8FD-46B0-9454-F330539A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10E95-6824-4F92-8F08-F8D3170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0EC25-E832-442A-9451-103F6DD5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3C44F-5B36-4407-93D5-46F7F4CB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D473D-29D2-47DD-AC44-EB18C29A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8C38E-CAD3-4D88-A63E-9C306F9E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1B42-E102-4BD7-8786-34FA3DF4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6B7D5-6D94-4FCC-8616-3B3C4C1D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BA838-6BF4-4E0E-934F-837954B7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0BC70-9085-40C9-914C-6987E546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BA370-5F9A-40CA-94F8-1A261F71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E9143-9749-4248-9E02-A488889B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728FD-1145-4530-97E6-4D97C165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F9B03-1465-4A3C-B834-A52BBF7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3656F-3DED-4C84-88CA-94EEB23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69804-6950-43C8-AE9A-FF33ED9A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83615-30E3-403B-8ED5-FD10BA08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878E-4563-4EBB-88E5-DEB92327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5D4C1-3F61-4E41-ABC1-861A8774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0555B2-89BE-4E5C-A302-904F107D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AC962D-51EF-4FF9-B65C-328DE6F8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4B609F-4C0A-493F-8D2F-BDE72BEA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C4CBE4-4A4F-4105-AC85-9064EBAB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80B732-DD72-44B4-82C4-1C07E852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C01799-B844-47F4-94D9-94E1012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72C2A7-7402-4B19-85F2-05A4045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D889AF-7413-4195-BBE7-94939F7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0D96AB-2118-4D9C-91DA-B9BDF0B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1636-AF7B-4B22-9E54-25558BE7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A23D9C-ECEF-4518-8853-433A6202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51E526-EE0A-49AF-A6B0-BA8129FD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397913-CACB-44BE-9B4B-20E3CFFE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BDD03-4516-474E-A886-CE4A6987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D025F-8045-4B2B-ABE4-C88C8D2E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9401C-ABD3-4627-B2FE-5CE53ED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C130F-C1F5-446D-8889-A2305533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0764E-9F24-4118-8B1D-AA5A072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5DF89-AD75-4444-B9C2-BF4610A6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1100B-2401-476B-9E6D-FADC063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A73C-0C18-4518-8D51-BEAEA37F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FDBA8-E2F1-4253-8E0D-DA10C56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402BC-038C-4A6D-AE47-A1C1FFF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B5A94-EBD7-40AD-BB4A-ACED8DB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85852-49DE-42E9-AFDD-498FFC2D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5D789-1B01-4A16-932E-18708A6D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BE9478-80A9-478C-8900-319BB224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5A8269-1C4D-4B35-8D74-8DC76076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1AA111-73E1-4246-8B02-1663961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FA5036-883C-474E-A597-F53752D4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2E539F-D91A-4248-B95F-C2D80378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652-5635-4AF3-B490-982030B5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5CBE32-9D10-4E40-88EC-0E8847E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8ADF52-8DCA-42E2-A402-0833C33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05836D-1104-42AD-8204-F3802401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71244E-82CD-4EE4-925D-70F8E9A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52C25C-23B1-4A09-AB24-F997046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70F50F-D752-48F6-BC7C-4BCDC91D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ADBBE2-D723-41BB-9C15-2E437447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2B8D4E-548B-4FEF-828A-AA4F247C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BD286F-9014-4B96-A87F-8B7E9CD3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7674E4-FB1F-4C96-BEA0-AA5C9919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8AE0-3593-45D4-896E-05D7B4C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C384CD-B528-4E1C-B796-E2D1AF5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07D2C5-E924-4E09-AADC-C75C54D4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E851A9-9DCD-4196-BAF0-E26542B4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1F342C-E00B-4F7F-B140-1728AF3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7F0FD4-7945-46D6-A61C-FAC7EB6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0F0093-401A-4252-9304-C0B606DD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D7947F-E599-4990-B6B7-80431225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507CA7-66AB-4755-9498-AA83E669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763F9A-6871-4B46-BBE5-B9D47EF2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F77AE6-0134-4DD9-9EE1-FDA30A73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21E0-FC18-42E4-9787-0DA3937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2020FB-92FE-46C0-844A-9E22702B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52E0B5-AB94-4457-95D6-C20C68F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FF0BC3-8F2D-4D5A-A4A6-D58DA7ED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81EA45-6A31-46CB-9A84-25114F53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B8F0A2-9408-4C60-8FF4-B2579A2F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6B6E50-04FA-4BAF-9B3C-F5AC0DD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A5CAB1-9FA3-420B-BE3F-834D5CF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C48A3B-F425-44DF-8F48-BE37416C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45AC1D-6A52-406F-9594-71F2CC72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F1DAE4-2811-4508-A235-E1B77739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E7AD-4282-4100-89C1-CF13AFB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D30817-4BA6-4B60-87B0-0DC57761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5F4931-E57D-4A2A-A618-98A8BDE7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7D6E76-F973-499A-986B-ED2BD2E6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A4314F-26B7-4D2C-AF32-58C23AC9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7C085D-E99F-4C33-AF32-7341A4D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7A37E0-D5A3-4333-82CD-9F94A4E3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F575DA-797C-4CF8-AB67-91AC41D1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91B942-46AA-46B9-BCFD-44BA518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443854-5D23-40FA-995B-2DEFA99A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5EBC88-E283-4E31-A56F-09126D04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E172-5386-4ED2-989E-39AD6EA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707C0B-3FEF-4AA7-B3BB-7F2BEAC6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166D02-0A3A-4872-9B2A-0A2FA060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288B23-B8E4-452D-9D7C-4C1DEA95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1FA8E5-90ED-4F36-BDFE-B8664845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384642-90EB-4C3B-9B0A-638CDFEA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A42972-4628-4145-96EF-1C7E55FB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DA3467-FFF4-4A27-8AB2-D846D843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443004-7537-4150-B771-223E2224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3D8185-7B5B-42B5-8AEC-7D1DCA51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3CC98F-1EF8-4C50-890C-5DEDE71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0398-0E06-423A-88A7-AF6CB686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D296-7E7F-42E2-8145-D8E2701E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6C7FE0-2707-4115-95B7-8D5D0852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E3120A-DD9F-4009-8F12-32F5C9A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68B964-CB4D-4CC7-A47D-C2E4970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0FA588-39F3-4798-899A-154770B1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E1FAA9-1E6D-4CA2-811D-952C4236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7B7CFB-3794-46AE-AA23-087BAF65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2BDE71-2293-4F60-85CA-497B2BB9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8D4AED-0065-40E7-A102-9802201F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C28012-7C4D-46FA-8703-72F9E2AD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25A851-6BC4-482C-B9A8-877AAEA3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A1F8-BDAB-4204-8F48-8A54359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8AB473-E537-4FDE-A2C0-BFD16968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BDA9A2-9B08-412F-A3C6-076D0480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5DC99B-DAF7-44A4-97A6-D902EA5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377204-8E27-4F0E-A1E4-108E3A7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F0AABE-F2B2-4468-84EB-C2D8DD1E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2F8B14-7BC2-4FC6-BF43-8B535707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48DEBE-7577-4445-A50A-3660EF01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32652B-23FD-41BB-8C66-28692B7E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990962-79A7-4B2B-95F3-6A365691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6BD9E3-5B99-462C-98C7-F47FF9CE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60A9-5949-4556-B1E6-D14E6D1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10B29C-6EAF-4686-B412-A0A6E20F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F8B6C5-54C2-4464-A1DD-B0089CC8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4CBA09-5845-4BC0-B354-4DF46495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FD85A6-CF02-47E3-ACEE-A53B37B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EAC306-F76E-4541-9C25-C03A322F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EC60DF-1391-4B99-B0FA-50F260D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37526A-E6F7-40C9-BC96-FFF6A4AF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AD870A-8197-4254-A3CA-1B0963D9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FB5524-16E8-4682-8326-DDAE2567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7FACB8-BE80-436F-B2D5-57CF6CB5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0A05-992C-45DE-85AE-1FE12B79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B583E6-9999-44DE-82A5-B41A6082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C81617-2448-49D9-8D4A-8652D86D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F8C990E-E4C2-44A5-8E73-3D451EF8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C2B854-2400-4A1B-A981-78D3982C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986E97-4CF0-4443-B1E9-5AC984C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578741-1432-4DE0-ADEF-AB59925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4C8AB4-0CC8-4B9A-9DC2-6C1D0E36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AA874D-8AEA-4C88-8FE6-CF997F4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BCE183-C636-45D1-9401-7E4640B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38EE9C-09E3-45D3-969B-D8B82C66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710-811E-43C9-8222-8BFD512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FF41D7-4068-4F14-96DB-C6CE0FE2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B567B2-58DF-4140-857A-8F10F7E4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33514FF-C9F1-46D3-B799-C3E4472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D4447C-C1C1-4669-A26F-176570F1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194B63-E462-420E-9884-46AD30F5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35FD38-129C-4579-88B3-3F0B1F1E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8E73E9-11C7-4F61-99F0-56A82F84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360218-895F-44D7-B6C2-FA49F62D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F8C2F2-02B3-425A-82F5-D675A06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AE0FF7-3CA5-40A7-BC47-DD9CEB4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E783C7-E891-4395-9009-37B0950B437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3D248B-C3B6-48D7-BD68-F9FF78B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02D0F6-93C8-45F2-83B1-D755F48D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FFF0EC-4898-419C-A120-1DA3E8BB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3E68A3-65F4-4D59-9123-9A6D6658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43DBD3-31C8-44D6-8EB6-A98AE353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750539-0980-4B3A-9444-599BA63A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FC1C903-0BE4-4824-85F8-0ED9F8C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8A3916A-077A-4F1F-A92F-60AC4E90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9BCC90-EA71-41CB-A983-3473FD59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34EB083-FFCE-45CB-BC4F-450A315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7A2A4-8EDA-44C7-92D2-86CBC7DAC11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923B80-603F-45D7-8A49-2D71D76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4AFF8C-653E-4E18-8848-39A99B9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311B63-BD08-463E-807E-5FF7C5A2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725B1BF-AADB-4E5F-9801-A6516FBA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B235751-F8B7-4FEA-AF03-19CBB4F5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553397-0B19-4576-9C11-7F1EC690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F3CB86-22CA-493C-B328-2DEBA69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D922C4-CDF6-4039-BAE8-E6F06377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DB3948-16A1-4A0C-8EF1-D73AB03F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CDECCD-850D-4C36-90AA-C4907A7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3E25E-08DE-44B3-8E05-638CBB02DA2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CA2D9E6-6082-4473-B23D-00DC3EF5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9A972E-5A23-4A98-BB03-269DE000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563652-6BD3-44B8-B94D-9561F98A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8F4157-28C1-4AE5-8A21-AC72049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4F126F-32D7-4D21-B55C-6027E3BD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78F1628-5FC6-4D92-AAD0-38F2C020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73D0B25-21C3-4F8F-AC91-8CAA006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6107D0-3D2A-447C-AAE2-C9082626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63F6502-95DC-4B77-A69B-CFC1FE4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B159FF-A90C-424B-9F5E-099CB6FF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657AB-47F3-4DDC-894D-D3FB86B4F95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BABDDA-7111-483C-8D62-F7E2032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E2B09A-3F9F-4A07-BA58-185DD446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78AC0C-10D8-4D45-97E8-8CF63145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245D53-817F-4BAC-B3CE-598CCEF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5326899-D403-45C9-A930-B6011E0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872112-A5FF-4AAC-8410-991FC2D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710883-F82B-4FC9-8018-DC4F8565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ED1414-0A2D-436A-B876-EBFEB96F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EB0430-D405-4711-8AB8-7D469C33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2D366B-3208-4F3B-8AC8-C71D1EEF4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16BEB-6AD0-4615-8A4D-2B4A5A9CFEB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7A179A-1150-4891-B13E-E1D8F6EC498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993FD0-A638-456C-8A63-044B350DB53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43491A-EB92-43AB-98D3-6545255A0AD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1319AB-4FCC-4C1A-826E-42E5ECD3E17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B20507-E8D6-4C59-ADCF-34D7F34763E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CF20A7-668A-4073-989B-35D1F295599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9B4B8-7872-4EFA-8D88-40A7A3839DD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6A7D87-E0A3-4C5A-B237-00D790611BD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837979-6C69-4C78-B6F4-96ACE4257AD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B487B-E9EA-4350-8352-4D7C9318E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3154-92EA-4D5B-93B3-69DF4248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F1AC0-2068-41AF-907B-930FFE6F284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591E45-6C72-477E-A5F6-BF6D8D8EFB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46709-5F78-40A3-9EEA-33BF630F8F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575B6-5D06-4020-91BE-0DF5A51C1F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D0A40-1A71-47EB-9C65-4A4B86CCC6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2F6BC-9CC4-43A8-9E9C-001FDD1525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CF041-416E-404A-B8F9-C70EB814F0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12826-A0C2-4382-8D5E-4177658D58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24456-72BE-48E6-8291-5F5A56A6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6F67E-A747-45C4-9F31-A529576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1FD8E-85CE-4944-A0C8-717F33EB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0010-2351-461A-B80C-397C0685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FEB4E-161C-40F6-9E56-8C92BE8D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DE8857-FF0B-47D5-8D71-2173B262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9D8A9-DC29-4295-A672-D77A9C82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2EB4E-4D79-4B4F-AEF9-3D51C50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EAAE8-E697-4061-B34B-8C38237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404DA-C207-4762-8622-A90F3B1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AC46E-7DEE-4EB2-A6BD-7147885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EA892-13C2-4B42-8F25-DAFF3012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FB2E1-ABCC-4D1D-8D4E-4920F557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702DD1-6235-47C5-826B-19DCFA95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7D30-5E13-4995-83DC-8527D42A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3E292-1C68-4021-BCF9-11435032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443E0-44C0-452D-8E29-67CB4A4B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8F6B37-1613-4E24-B258-8C9C7F67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37F98E-2384-4EC3-BF3E-300AA18F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6824A-481A-4162-A155-7C4ABBDF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949EF2-CE41-4F8F-9AAE-BB4041E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5CD2CB-894F-4E1D-B72D-342318D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F8BD1-FA3E-4487-8F46-BD9216C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E7C9A0-441F-4C6B-A0A4-DC4DA468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DC554C-6C05-43A5-99A5-BCD3E1B5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C99C-3AB3-4479-B124-B69E5E7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B69C1A-6000-423C-B67C-2965C0F6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F2BAC-E4B1-494B-B621-56BDF4D4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2301F6-9E0D-4F15-8F7F-1793B32F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70F84-8F15-4687-9964-9783BF48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700BA-2660-4C47-B888-98E3DFE0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652460-8210-4878-8EBF-CD84809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33B222-2730-42CA-AD0D-241802D0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2D25E-01B2-4C9F-BFDD-D819060C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D9D52-0F26-47D6-9D53-EEC7B9EB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5D84F-3211-471B-90AF-533BFFD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B310-DA8E-4BA4-9988-AF02E0B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D1B175-346A-4278-891D-35FABF96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7F3E4-0B22-47B9-BDCC-539572E7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CBA013-A7D4-4613-8B89-935CD00D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2C866D-A644-4EC1-979D-42EFCAF9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32397-26F7-4BDD-8DC6-1094C6FF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355985-DAC5-4927-831E-011BFFA7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53665-85E4-4E14-BF10-A502DE47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1854A4-9B1E-4CDE-AD4F-3F6B4781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45D9A3-2E7C-46B3-BC6E-D30A552A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F967FB-DACD-46CF-A082-CF2DEE6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B439-A647-4C65-9646-4E3D1983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08DB13-73FB-4AE1-A53F-13A833F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7BD737-D95E-4521-A0B4-0668152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E01D5B-9B83-4D11-AA0D-C91C3955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4C28A-18F6-47C2-97DE-622A2122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CFDDB8-A46F-4C6D-B0B9-B51B6F7D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DF3CA0-63E6-48D1-A98C-E888083A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0ABC12-28F0-404C-B8AC-B65E40F7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EE27FC-ACB7-489B-A506-B38054A3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D5693-ED79-4A8E-A844-7B729F3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B7B48A-C25B-4CBA-97E0-5E48260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F52F-0B25-481A-97E5-350A5F4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F7D1B5-60C0-48F6-A2A6-A5FA90E1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ADD7C-364D-40C7-BE06-DCAA70D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FC98B0-A01E-4F31-B1EF-7CB4505B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D6C0D9-EB22-44FE-AB3B-06EE355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37F65B-5677-4A5E-AC5E-422DC05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ED5DAD-5AB9-41E2-B532-497C5FBC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6249BA-AA61-4A2B-8276-D233C46E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651BA-AA30-4C74-8F9A-F0CAD885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2EB40-AC0D-405E-BA2E-13B1F94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86037-F3D0-4DD9-9A63-405C9D55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059D-3DC7-4272-9DE3-703B018425B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B6EF-6596-4C37-A67A-EE5D369A5FF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62C1-E6E7-489C-BF7E-EEF2D68007A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2042-051C-4918-9BD3-BC9F29F5184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794-1235-4A6D-9A3F-AEA409C638C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124A-AD79-4F29-A260-2E8CE5C412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049-29FF-4B51-8DF5-ADDBD6A928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6270-EC67-4379-AFB3-E61503BCD6C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14F4-9D55-4EA2-80EC-6C79049952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342-5181-4CEC-89F3-FE81157CFB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134-0EE7-49D5-9E40-FC5E37FDBC8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6C6F-6C22-4896-810F-D096DB6DF9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54F7-B633-4DB4-AC1F-2EDC6ECCC7E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798E-CC16-4304-B45D-EC721C23A88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F8D-278F-4540-B947-6D81C9550ED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8E48-5BFA-4CA6-8650-D5D576519FE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F1A-0E4D-441D-A62E-935F5850386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6699-58CC-4FE4-8C22-E85456AA3D8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7585-8A26-41AA-8F4D-15C40E3308D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3E57-0DC5-4996-93B3-CB2C2F1AFEF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6B55-F255-4C61-B5BA-66DFB5DC585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B28A-3185-46D7-A98F-080583A2577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1675-E79B-4ABA-AA70-07F8B818C9C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415B-06DC-4821-B224-E5B537F4A52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3F33-FE5F-4B44-A74E-416DD42CB1C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2483-5394-4806-85A7-AAEF9FC3F6C7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uture Trend – Social Commerc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To address these challen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uring portal design, the following steps need to be follow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ilitation of planning and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nimization of information redunda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gration of proc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icient metr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sonalization/Customiz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edbac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191E-E652-4A40-95BB-30CB8CB0417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Future of social commerce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known to be effective only for impulse purch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balance between data privacy policies (EU fight against goog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ore B2B transactions in fu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2C transactions increasing at faster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gulatory and privacy policy to be tighten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intaining trust with transpar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3-D effect on products to be so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uge user base and hence ability to make meaningful data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New marketing techniques such as Cash On Delivery (COD) will help induce more purch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6376-C4A3-4ADD-AE13-9A5B24006C4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53"/>
                </a:solidFill>
                <a:latin typeface="Bookman Old Style"/>
              </a:rPr>
              <a:t>Case: Halfmantr, Traveltriangle and Lenskart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or each c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Discuss traditional supply vs online purch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Issues such as mindse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Face to face consultation vs online cha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Feel vs 2D online displa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Element of doubt regarding customer satisfac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Promotion polic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Less margin initiall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unding issues with such firm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Achieving break ev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etaining customer – customer loyal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isk involved in this mode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ivacy issu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inancial data secur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tegration of social network with the si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Using feedback to improve quality of deliverable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Using social platforms for promo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4CF5-DC72-423A-BFD7-0F7C4D00F0A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ocio-commerce is the way to make e-commerce a sustainable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ustomers who will enjoy discounts, free shipping, cash on delivery, and experience of a product without touching 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enture Capitalists, including Tiger Global, has been increasing their investment exposure in internet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curity risks that can put the individual or a company in a compromising position or at serious ris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st practices can be standardized and updat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7291-6253-457A-8456-766A55B868F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chapter will discuss the following concept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at is social e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w do firms get benefits out of 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alue addition from social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trategy for social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1D4-B339-4304-921C-86046ADE70F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commerce 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ermed as innovative,  expansive, immature, FAD’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In spite of dot com burst e-commerce was reviv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oday customers have become tech savvy and are willing to spend time onlin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Customers willing to purchase through online even if they are illiterat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ubiquitous internet changing behavioural pattern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Online Indian social life has taken the lea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Ecommerce with online social life is called socio-commerc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Socio commerce uses potent technologies and harness social media to organize the business strategi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managers use social power and reframe their policies and strategies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his approach shows authenticity, fairness, transparency and good faith to its stakeholders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3501-E740-4B89-98A3-80278B357D7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lectronic commerce with social networking network si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bset of electronic 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so involves social networking sites (onli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ocial interaction and user contrib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set of online collaborative shopping too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so available - information on different products and services as experienced by thes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er-generated reviews, com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ntents that can act as ‘free advertisements’ for different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ing these comments prospective buyers can buy these products and servic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9D61-C32E-42DE-9F03-3E5635849AB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628020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Understanding Social Commerce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Understanding Social Commerc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hese online marketing sites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n be accessed from the social networking sit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llaborative e-commerce tool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Prospects use these tools to get advice from trusted individuals, find goods and services and then purchase th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sing these collaborative tools manufacturers have tried to improve their product featur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rvice providers use these tools to improve service levels in their supply ch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xamples of these tools - customer ratings and reviews, user recommendations and referr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cial commerce is a collaborative networks of online participants such as vendors, users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cial shopping as collaborative activity of online shopp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40F8-D33D-4F8F-8C3B-C8B39B2CAB1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Evolution of </a:t>
            </a: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social commerce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rted with social networking sites such as facebo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Facebook commerce (f-commerce) has become popul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ollaboration amongst customers, suppliers and retail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etailers are looking at having their own Facebook p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onsumers can take buying  and purchase decis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reation of virtual marketplace with social shopping websi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Social Commerce important dates (please refer to the chapter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C39E-1671-4887-A650-3E0EA6CFBFD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64653"/>
                </a:solidFill>
                <a:latin typeface="Bookman Old Style"/>
              </a:rPr>
              <a:t>Features of Social Commer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atings and reviews for the products and services by us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ecommendation technology featu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get product recommendations based on their own interests, preferen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ustomers likely to check online for reviews prior to making a purch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networked users generate new ideas, advertise, and create added value at virtually no cos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creasing efficiency by understanding customer needs, identifying potential customers &amp; building customer loyal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Ex: Volkswagen launched an ad campaign using YouTube, focusing on ecological concern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Volkswagon utilizes these ideas and incorporates i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Facebook ‘Like’ Button on the product’s web p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Better Understanding of the Consumer’s behavi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stant Personalization of the user experi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Brand Grow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F59E-2893-44AD-8217-BCB4D42CD1B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vantages of Social 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sures a personalized shopping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ccess to the customer’s social graph and inter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tailers can develop promotional strategies and plans that suit to the customer’s preferences and inter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reates comm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nintains direct contact with ‘Communitie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mmunity can exchange reviews about the products they have purchas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ocial commerce also creates a trusted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kes the experience seamless for a customer right from providing the content, product reviews, payment options to final purch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34F2-A340-4D1F-BDB6-4E2F36C6E1A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53"/>
                </a:solidFill>
                <a:latin typeface="Bookman Old Style"/>
              </a:rPr>
              <a:t>Trends and the challenges of social commerce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Moving Away from the Traditional Med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ffering a United Shopping Experi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ustomer Engag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tegrate the payment gateway inside the Social Media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ebook’s security iss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ools for social commerce change rapid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dden soft cos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uilding a strong relationship with the customer takes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ustomers can express their disappointment and negatively impact a brand’s repu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sability testing is complex and requires advance ski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domain knowledge to have effective data analy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0T18:29:41Z</dcterms:modified>
  <cp:revision>451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